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2A5EC-9749-4423-95A9-008E7D161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gallon jugs of water, sealed, book at each copy stand, jobs that use keyboar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et in hall, introduce 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et in hall, cooperation, self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behind computer, no tou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:  Keyboard, mouse, copy stand, chair.  Practice copy stand then s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ine is a natural S cur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spine is not in alignment it pushed into nerves and causes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e sit the spine changes shape unless there is lumbar supp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a line through the body with half the weight in the front and half in the beh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 and feel natural curve of spine with their hand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t and try to maintain th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ill have to lean slightly forward to stretch up from the hip to bal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ore muscles, practice to build core str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should not be tilted forward or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ing position for eyes is 15 degrees below horiz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 balances on vertebra.  After 15 degrees weight of head transfers from skeletal system to muscular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re it is lifted or lowered the more strain on mus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ies:  Pass around gallon of water to demonstrate weight of head. (Use two to go fas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place fingers on muscles at the back of neck.  Feel muscle tension increase and decrease moving head up and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 surface at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ulders and upper arms do the work not the wri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ot in or back as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hild holds a book in his or her hand with upper arms perpendicular to the flo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hold the book all the way out in front at arms length and feel that the book is heavi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the book halfway in and feel that it is lighter as it gets clos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ame thing with one arm while the other arm feels for muscle ten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parts get heavier as they move away from the trunk keep them clo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nse muscles hurt - correct distance from the keyboard so they can hang stra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put one hand on the other upper arm and raise the elbow of the arm being held to feel the muscles ten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same thing holding the shoul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and blood vessels in the wrist can be pinched by angling them in or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sts are more vulnerable than shoulders so they should be highest prio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hold hands out in front of them, palm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hands outwards and inwards while keeping wrists still.  Notice the tension in the fore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wrists straight to avoid strain when using keyboard.  When wrists arch or dip the bending can compress nerves and blood vesse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e keyboard at the edge of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rest wrists on any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students hold hands out in front of them, palms d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hands up and down while keeping wrists still.  Notice the tension in the tendons and muscles of the forea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r feet are not supporting any of your body weight you must tense your back muscles to keep from falling off the chai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a stool under feet if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eet don’t touch the floor and take weight off the legs blood vessels and nerves in the back of the legs are comp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 has to work harder to pump blood back u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:  Get stoo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just chairs and screen if need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D0DD-EF0A-4A90-BE41-9690A14DD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5B17-3EF0-460F-BB4A-F4C9CB677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7BE-45E3-40ED-8B8A-21AEDB77D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B1F2-408A-4493-B42F-9D2F289B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B7C3-A969-468D-A3C1-E99A888E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4DB-28B6-424A-90A7-C08326AB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483F-9C64-46BE-B50C-1FA935F1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FE56-DAFF-403E-9F2C-BDCF13B9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DACC-7A9B-4307-8C8C-A10FB179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97F8-217B-4FF2-8877-BF55643A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D04C4-D8A2-4650-ACA5-0354DD7B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DD35-EC49-4E38-B23F-6EAC54EA7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6294C-B5BB-4B3D-B667-57789DF8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700E-BFD8-4DD1-8C0F-1B4022A2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E8239-3F25-429E-B5BA-458E4447B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B201-63B1-4A4D-B466-1DA75142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E6CF-8137-4B20-A5CB-009629AF0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62B-A48C-4B1D-873B-092C125EC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F054-5BD7-455B-9728-2B65B027F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5D8A-8C5C-44B8-A6BB-D652A80F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0F32-2971-4ACB-A95F-549F1B6CF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82A6-A133-4EFC-80D1-03B7019E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6B7-79F6-496A-BAB9-E6A6A6A9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3B6C-FA02-492D-BDD1-C04564A37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4A77-475A-4D49-994F-6CF95D21F63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5D14E-93C1-44F6-B9F3-FB40A5339A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yboarding Pos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2438280"/>
            <a:ext cx="708660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esson from Sitting Pretty:  Safe Posture for Keyboarding and Other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’s go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xpec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correct pos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the comp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into Ultrak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Sit u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095640" y="1662120"/>
            <a:ext cx="29527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ging i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your full school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ris Brown might be Christopher Brow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xtra spaces in between names or after 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word is your birthday, two numbers for month, two for day of the 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pril 1st birthday is 0401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38080" y="762120"/>
            <a:ext cx="6934320" cy="5903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666520" y="-360"/>
            <a:ext cx="312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Login Scree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3733920" cy="52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rua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0" y="990720"/>
            <a:ext cx="373392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g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to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v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mb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90512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Good luck and good posture!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omputer lab reminder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ouching scre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ve no tr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Keyboar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ous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i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opystan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keyboarding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 of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good ha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s on form not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posture = less p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build core muscle strength for good pos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 makes it easi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learning is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Head Up Stra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24080" y="1066680"/>
            <a:ext cx="3419640" cy="66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Heigh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267080" y="990720"/>
            <a:ext cx="3191040" cy="50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Elbow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976480" y="1986120"/>
            <a:ext cx="319104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Wrists straight side to sid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71720" y="1986120"/>
            <a:ext cx="3400560" cy="28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Wrists straight up and dow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928960" y="1428840"/>
            <a:ext cx="32860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Posture:  Feet flat and knees squar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095640" y="1495440"/>
            <a:ext cx="295272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03T15:59:23Z</dcterms:created>
  <dc:creator>Roseville Schools</dc:creator>
  <dc:description/>
  <dc:language>en-US</dc:language>
  <cp:lastModifiedBy>Roseville Schools</cp:lastModifiedBy>
  <dcterms:modified xsi:type="dcterms:W3CDTF">2009-09-10T18:06:36Z</dcterms:modified>
  <cp:revision>31</cp:revision>
  <dc:subject/>
  <dc:title>Keyboarding Posture</dc:title>
</cp:coreProperties>
</file>